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9709-F0A8-4E35-8AA2-A45E0004B5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60B66-8C85-4EE7-875F-ED850E25193E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81D-D5D2-41A6-B6F3-F64265F4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C50-D45F-43EA-8340-65DA08B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0A6-1654-40FE-BA19-39EF4295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069-6F53-4A8A-A958-4BD9823D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7E7A-EF94-44CC-9F01-ED73E7D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7BDB-6FC3-4F0D-9868-24084BB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8B86-B6A8-4D41-A702-C360DBCE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B504-9780-4E63-87C1-135F468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EDD1-7B50-4332-8763-ADE2700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CDCA-8ACD-425B-BFCD-B15E1E5C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991E-377A-4428-9A25-F20F858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C05-E4B6-4373-96DC-E2E3198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2A86-3BA2-4EA9-BB1D-B843AF5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B34-177D-45D2-8CA8-FA4F0C2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6AED-6E3F-4ADE-93AA-3AE1546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8A2-037C-4C87-80C9-CAE9B648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974-7C56-481D-947E-07A0C0C9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A40C-151E-4DBA-84EB-3F48D1E9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08FA-D7FD-4309-B4FD-02177D9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8BCD-E3AB-4318-B4DF-6A70ADE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EDC9-87E2-4AC9-BAD9-6FC6C992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3676-9E27-494A-B13F-FA42C22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D7F-7DF2-44B3-BBB3-E6E603A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CDDA-7B33-4463-91EA-9BDF69B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103C-BF30-4BDB-AD7D-CD5B19D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DA45-7094-44FE-A649-20B8AF59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876B-7755-488F-91D4-080BE10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94E8-FEA6-4887-9F18-39C564F3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487E-E2EB-40F8-A129-6B211D76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5DE7-7FD5-4A42-9D61-2776CAD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43C-FCA6-4AA1-BEFB-FD73398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145-95AE-4FC1-B00B-9071D67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EA5-2D6F-493E-9B46-8D87F301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BE5-AE42-47EE-93E7-251AC70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8AF-D9E4-4AB5-9675-05B5B8DB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5C9-E6C8-481A-9420-B251D2D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834-9BF9-43FC-B3EE-97ED021DE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F63-B6C9-4665-A5FD-81CB0AF6C13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D668-D361-4007-92B1-EC0A6DB9EFC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1001880"/>
            <a:ext cx="78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城镇污水处理厂污泥处理处置”相关标准解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280" y="2492280"/>
            <a:ext cx="907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郑国砥   博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电话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010-648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8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zhenggd@igsnrr.ac.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中国科学院地理科学与资源研究所环境修复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根据作物类型和土壤条件控制污染风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根据污泥污染物浓度进行分级控制风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增加用量控制指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404640"/>
            <a:ext cx="66294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污泥农用标准编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制定的基本考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00"/>
              </a:spcBef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根据重金属含量差异，将污泥分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00"/>
              </a:spcBef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区分进入食物链和非食物链的作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00"/>
              </a:spcBef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适当放宽对作物和人体有益元素的限量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00"/>
              </a:spcBef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严格限制毒性强、危害作物和人体健康的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00"/>
              </a:spcBef>
              <a:buClr>
                <a:srgbClr val="00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便于操作、执行和监督的原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几点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8040" indent="-428040">
              <a:lnSpc>
                <a:spcPct val="11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基本宗旨：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保护土壤和环境，合理解决污泥出路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1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进行分级管理：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食物链、非食物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1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调整限量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9760" indent="-355320">
              <a:lnSpc>
                <a:spcPct val="11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金属元素：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有益的——适当放宽，环境危大的——严格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760" indent="-355320">
              <a:lnSpc>
                <a:spcPct val="11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有机污染物：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  <a:ea typeface="Times New Roman"/>
              </a:rPr>
              <a:t>增加多环芳烃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  <a:ea typeface="Times New Roman"/>
              </a:rPr>
              <a:t>(PAH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760" indent="-355320">
              <a:lnSpc>
                <a:spcPct val="110000"/>
              </a:lnSpc>
              <a:spcBef>
                <a:spcPts val="1012"/>
              </a:spcBef>
              <a:buClr>
                <a:srgbClr val="00ffff"/>
              </a:buClr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卫生学指标：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  <a:ea typeface="Times New Roman"/>
              </a:rPr>
              <a:t>蛔虫卵死亡率、</a:t>
            </a:r>
            <a:r>
              <a:rPr b="1" lang="zh-CN" sz="1800" spc="-1" strike="noStrike">
                <a:solidFill>
                  <a:srgbClr val="ff33cc"/>
                </a:solidFill>
                <a:latin typeface="宋体"/>
                <a:ea typeface="Times New Roman"/>
              </a:rPr>
              <a:t>粪大肠菌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9760" indent="-355320">
              <a:lnSpc>
                <a:spcPct val="11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物理性质：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  <a:ea typeface="Times New Roman"/>
              </a:rPr>
              <a:t>水分、粒径、杂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760" indent="-355320">
              <a:lnSpc>
                <a:spcPct val="11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生物稳定性：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腐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760" indent="-355320">
              <a:lnSpc>
                <a:spcPct val="11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肥力指标：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要求最低的养分和有机质含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1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限制用量：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&lt;7.5 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吨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公顷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040" indent="-428040">
              <a:lnSpc>
                <a:spcPct val="11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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限制使用区域：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饮用水源地、湖泊周围和洪水泛滥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污泥系列标准实施后的作用已经显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设部标准《城镇污水处理厂污泥处置 混合填埋泥质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CJ/T249-2007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该标准规定，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日起，进入垃圾填埋场的污泥含水量必须小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目前脱水污泥含水量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左右，不能直接进入垃圾填埋场进行混合填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住建部相关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分类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泥质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2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园林绿化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2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混合填埋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制砖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单独焚烧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土地改良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农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3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林地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3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理处置技术指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住建部、发改委联合颁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部委相关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理技术规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J131-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《城镇污水处理厂污泥处理处置及污染防治技术政策》（建设部、环保部、科技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理处置污染防治最佳可行技术指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试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 HJ-BAT-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理处置技术指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住建部、发改委联合颁布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关于加强城镇污水处理厂污泥污染防治工作的通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《城镇污水处理厂污泥处理处置技术规范》环保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134136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不同标准的冲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GB4284-8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8918-2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同部门的职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住建部：责任主体，建设运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环保部：污染控制，监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业部：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存在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后果与出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污泥监督监管不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污泥污染依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相关部门的委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准协调、加强研究、符合实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6885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40328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1828440"/>
            <a:ext cx="8820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农用污泥中污染物控制标准》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GB4284-8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城市污水处理厂污水污泥排放标准》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CJ3025-93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城镇污水处理厂污染物排放标准》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GB18918-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762120"/>
            <a:ext cx="789948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污泥处理处置相关的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污泥相关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86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农用污泥中污染物控制标准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GB4284-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原国务院环境保护小组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农牧渔业部环境保护科研监测所、北京农业大学负责起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委托农牧渔业部环境保护科研监测所负责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染物排放标准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GB18918-2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48497" t="0" r="0" b="0"/>
          <a:stretch/>
        </p:blipFill>
        <p:spPr>
          <a:xfrm>
            <a:off x="7704000" y="4437000"/>
            <a:ext cx="133200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73800" y="4505400"/>
            <a:ext cx="1423800" cy="148896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0" t="0" r="0" b="55323"/>
          <a:stretch/>
        </p:blipFill>
        <p:spPr>
          <a:xfrm>
            <a:off x="3236760" y="4535640"/>
            <a:ext cx="1300320" cy="1584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8"/>
          <p:cNvSpPr/>
          <p:nvPr/>
        </p:nvSpPr>
        <p:spPr>
          <a:xfrm>
            <a:off x="5435640" y="5672160"/>
            <a:ext cx="144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黑体"/>
              </a:rPr>
              <a:t>污水处理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9"/>
          <p:cNvSpPr/>
          <p:nvPr/>
        </p:nvSpPr>
        <p:spPr>
          <a:xfrm>
            <a:off x="7740720" y="5745240"/>
            <a:ext cx="122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黑体"/>
              </a:rPr>
              <a:t>二次污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5745240"/>
            <a:ext cx="107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  <a:ea typeface="黑体"/>
              </a:rPr>
              <a:t>城市污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539640" y="189000"/>
            <a:ext cx="795672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污泥问题已成为污水行业发展的瓶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9"/>
          <p:cNvSpPr/>
          <p:nvPr/>
        </p:nvSpPr>
        <p:spPr>
          <a:xfrm>
            <a:off x="4464000" y="5295960"/>
            <a:ext cx="100980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35000" y="486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污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79760" y="479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Arial"/>
              </a:rPr>
              <a:t>污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35800" y="2527200"/>
            <a:ext cx="4912200" cy="4070520"/>
            <a:chOff x="235800" y="2527200"/>
            <a:chExt cx="4912200" cy="4070520"/>
          </a:xfrm>
        </p:grpSpPr>
        <p:sp>
          <p:nvSpPr>
            <p:cNvPr id="149" name=""/>
            <p:cNvSpPr/>
            <p:nvPr/>
          </p:nvSpPr>
          <p:spPr>
            <a:xfrm>
              <a:off x="1237320" y="6379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19520" y="6379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12160" y="63860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85000" y="6379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6120" y="6379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5440" y="6379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440" y="60498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560" y="54180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2560" y="4781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800" y="41450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3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5800" y="3510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5800" y="28782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5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90560" y="6244920"/>
              <a:ext cx="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392480" y="6281280"/>
              <a:ext cx="252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569600" y="6232320"/>
              <a:ext cx="252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075760" y="6281280"/>
              <a:ext cx="108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251440" y="6232320"/>
              <a:ext cx="252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099960" y="6281640"/>
              <a:ext cx="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441960" y="6281280"/>
              <a:ext cx="108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782160" y="6281640"/>
              <a:ext cx="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20920" y="6281280"/>
              <a:ext cx="252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464000" y="6281640"/>
              <a:ext cx="252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805280" y="6281280"/>
              <a:ext cx="252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146920" y="6281640"/>
              <a:ext cx="108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47000" y="6284160"/>
              <a:ext cx="4399560" cy="172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4360" y="6122880"/>
              <a:ext cx="6228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4600" y="5805720"/>
              <a:ext cx="3240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360" y="5489640"/>
              <a:ext cx="6228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4600" y="5172480"/>
              <a:ext cx="3240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4680" y="4531320"/>
              <a:ext cx="22320" cy="6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8520" y="4245480"/>
              <a:ext cx="6228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4600" y="3898080"/>
              <a:ext cx="3240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4360" y="3580920"/>
              <a:ext cx="6228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4600" y="3263760"/>
              <a:ext cx="32400" cy="2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4360" y="2946240"/>
              <a:ext cx="6228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47000" y="2787480"/>
              <a:ext cx="0" cy="34938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052280" y="6013440"/>
              <a:ext cx="13680" cy="12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254960" y="5891400"/>
              <a:ext cx="7560" cy="3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392480" y="5903640"/>
              <a:ext cx="5040" cy="3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987920" y="5851080"/>
              <a:ext cx="9720" cy="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03840" y="5087880"/>
              <a:ext cx="590760" cy="75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800800" y="4093200"/>
              <a:ext cx="595800" cy="884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460320" y="2989080"/>
              <a:ext cx="1074240" cy="1028520"/>
            </a:xfrm>
            <a:prstGeom prst="line">
              <a:avLst/>
            </a:prstGeom>
            <a:ln cap="rnd" w="10152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800" y="6057360"/>
              <a:ext cx="83520" cy="9648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63440" y="6017040"/>
              <a:ext cx="82080" cy="9288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32720" y="5959080"/>
              <a:ext cx="82440" cy="9540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47800" y="5900040"/>
              <a:ext cx="81000" cy="9540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83880" y="5861160"/>
              <a:ext cx="80640" cy="9792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21040" y="5804280"/>
              <a:ext cx="83160" cy="9792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15120" y="4994640"/>
              <a:ext cx="83160" cy="9684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6280" y="6301080"/>
              <a:ext cx="108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" y="3614760"/>
              <a:ext cx="6228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" y="4871520"/>
              <a:ext cx="6228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" y="5499360"/>
              <a:ext cx="6228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" y="6127920"/>
              <a:ext cx="62280" cy="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" y="64148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98120" y="6315120"/>
              <a:ext cx="2520" cy="7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974880" y="6266520"/>
              <a:ext cx="2520" cy="3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8000" y="5993280"/>
              <a:ext cx="82080" cy="9288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27720" y="6039720"/>
              <a:ext cx="82080" cy="9288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82480" y="5936760"/>
              <a:ext cx="82080" cy="9540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18200" y="5913720"/>
              <a:ext cx="82080" cy="95400"/>
            </a:xfrm>
            <a:prstGeom prst="rect">
              <a:avLst/>
            </a:prstGeom>
            <a:solidFill>
              <a:srgbClr val="ffff00">
                <a:alpha val="48000"/>
              </a:srgbClr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880" y="2527200"/>
              <a:ext cx="107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污水厂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座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69"/>
          <p:cNvSpPr/>
          <p:nvPr/>
        </p:nvSpPr>
        <p:spPr>
          <a:xfrm>
            <a:off x="6913440" y="5295960"/>
            <a:ext cx="79056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547640" y="1268280"/>
            <a:ext cx="741708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300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现有污水厂绝大多数没有符合国家标准的污泥处置设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300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安全处置率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&lt;10%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未处理污泥随意乱丢现象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300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污泥恶臭问题招到居民抗议，影响社会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1905120"/>
            <a:ext cx="79218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06560" indent="-285840" algn="just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机质稳定化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解决烧苗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6560" indent="-285840" algn="just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杀灭病原菌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达到卫生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6560" indent="-285840" algn="just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除臭、灭蝇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消除感官不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6560" indent="-285840" algn="just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品的脱水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便于储运和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656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毒有害物质的污染控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056360" cy="907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土地利用的主要疑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143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《农用污泥中污染物控制标准》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存在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10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没有考虑我国土壤的环境容量，土壤、作物和人体健康等特殊情况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农用≠土地利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城市污泥总用量、病原菌、腐熟度等指标没有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个别重金属的限制不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楷体"/>
              </a:rPr>
              <a:t>污泥土地利用标准亟待完善和修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358720"/>
            <a:ext cx="8534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国制订的污泥农用标准缺乏相关工作基础，并且为不合理的强调防止土壤污染这一单一指标，没有充分考虑我国土壤、作物、社会、经济等综合因素和实际应用效果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国现行的控制标准只对污泥农用的污染物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包括重金属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浓度作了限制，但对污泥施用地中最多能容纳多少污染物却没有明确的规定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98100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楷体"/>
              </a:rPr>
              <a:t>污泥土地利用标准亟待完善和修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10000"/>
              </a:lnSpc>
              <a:spcBef>
                <a:spcPts val="700"/>
              </a:spcBef>
              <a:buClr>
                <a:srgbClr val="ff33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环境保护部门已注意到我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农用污泥中污染物控制标准》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中存在的问题，在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02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年发布的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《城镇污水处理厂污染物排放标准》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中顺便将城市污泥农用的锌限制标准进行了修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10000"/>
              </a:lnSpc>
              <a:spcBef>
                <a:spcPts val="700"/>
              </a:spcBef>
              <a:buClr>
                <a:srgbClr val="ff33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但是，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GB18918-2002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只是一个控制城镇污水处理厂的污泥中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污染物排放的标准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而不是针对城市污泥农用所制定的标准，该标准对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城市污泥土地利用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仅仅只是狭义的“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农用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中的许多问题并没有细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住建部相关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分类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泥质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2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园林绿化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2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混合填埋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制砖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单独焚烧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土地改良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2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农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3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置  林地用泥质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CJ/T3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城镇污水处理厂污泥处理处置技术指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住建部、发改委联合颁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0:58:15Z</dcterms:created>
  <dc:creator>aaa</dc:creator>
  <dc:description/>
  <dc:language>en-US</dc:language>
  <cp:lastModifiedBy>aaa</cp:lastModifiedBy>
  <dcterms:modified xsi:type="dcterms:W3CDTF">2011-05-27T05:00:20Z</dcterms:modified>
  <cp:revision>25</cp:revision>
  <dc:subject/>
  <dc:title>幻灯片 1</dc:title>
</cp:coreProperties>
</file>